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FFD10-D3B6-4A36-A0E3-E2C36ABD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0859-79B6-4576-94BB-BAAE65F0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F1190-A51D-48EB-B37E-DB62AFE9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3E92D-4264-444B-BF1E-D9291B39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20935-58E7-4498-B014-D581D0E7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E4453-528F-45E2-B290-C852C1CA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902CA-4E63-4E20-AFDB-43B5951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E8DE9-7EE9-436E-834C-8E024B0A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B4CD9-BF46-4D1C-8DC7-A99E33D4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43D11-641A-4659-BD14-0AF3A599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65829-7B26-4F8B-95CB-EF96A163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25034-1D12-4AD3-AD64-D3B0D03D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D0AD-B47F-4231-85E1-66954AC5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87139-8701-4AE7-A058-015603A4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C4762-91FB-489C-85F6-FEBABE75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3973F-9075-420F-8DFE-1EEF1EDB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9825B-4DB4-4F91-829D-A4FABA56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A1367-D762-4732-A803-2E9767ED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5B1FF-CE58-4DFD-9530-D9E4551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0E254-8658-41B0-8202-121E9B2B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BCA68-B30C-4D4A-975D-1BF605D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11FAB-7784-4FA5-AD59-93236D2A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51088-319E-4342-B94B-9DDAB1F3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251C-8EDC-46D1-BA42-BC44A742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9DA98-BFF0-4DCC-A3A5-04960614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D9131-2A5A-4FD0-AED5-14EB53AB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33230-98D5-4CA6-AE09-7883A7F3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8FB43-6C09-4107-9079-17AF26F5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9FB27-FC1F-4ED6-BA41-A05F17B2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D3426-319E-4162-B2E8-4F86765A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EC9DB-CA46-4980-900B-993A0BDA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F72B5-375F-405C-8E8F-610E4D8F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09A9E-42C6-4A8A-84C6-97B3AAD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E6ACB-60C6-4C61-A304-E834B81A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A06F-DBF3-47EB-A28E-4F834E62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7E263-FECA-49F9-8A47-5C81C60F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5955D-E785-4911-9033-C368291A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8108A-3890-4CFE-B80A-1C5B896C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DBD16-AE6D-479B-94B8-E19058F4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4AC5E-A628-4BAE-B88C-F9F4BC47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46B34-BD38-4864-B14C-5F012C7C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66D48-6ECE-4D9F-8056-D0310844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93EA7-4852-4716-ADF8-F5C1C916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467D5-35BB-488D-8C79-36A70F96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B0D95-B2BF-4DBF-86D6-48C41D71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DD52-D283-434F-9CFB-B0713FA1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97D21-ACDF-47F3-9DCA-0CF4431F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AEC2F-435C-4051-9F58-A83076F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74D1A-6292-4C75-A86F-A3C7FF68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E0CCE-CBAC-42C6-B112-D97F96BE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7B12A-A3E0-4504-9DFE-09D5648F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9B4E8-77D4-40EE-B434-48DE22A5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128A1-CD55-4A78-8905-E36CEC70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448E8-0922-4927-98F0-3463AA1F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FB1F7-9617-4B04-B737-93D7DD26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89667-C22E-4B6D-B5D5-2CD26743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BB19-D202-4602-82ED-D62D9117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BA59A-F275-414A-B1D1-EA7F136B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DB619-29FD-43F1-A919-68C18A18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4F1E9-A921-4CCF-B710-259478C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99023-E7C7-4DAE-B835-98AA3F43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49572-624C-48E6-9D9E-8B5E4225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41C09-B3F5-4941-9081-2AAA50D5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CFB62-FAA6-448D-B59C-6BFE34FD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024B9-9CF9-4E94-A2C5-E4DEEFA5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29312-4E9F-4DC7-AA47-0E6534CB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11B92-60A3-4302-B490-A43DAEDA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D13A-0E20-463F-AE63-BC248AF2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6697F-FCA6-4EF4-96EA-4BEF8CEC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869A4-4BBF-4910-AAC1-392664EF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FB9C9-36AB-45C6-9E0C-ECC9D5A2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C5838-3165-4898-94DE-3CE7DCFE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CE5CB-5B78-4867-BD0A-2C2CB44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55BFF-01AA-477E-97D0-B25931DA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72C1B-B8B3-4F5A-9529-16EE9014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7F95A-4ADB-4C5C-9C1F-A2816AB9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DBB1B-2D43-41F7-AB4C-56A9B24D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084F-A47D-4E40-AC62-F0B544D2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F13A-A459-447D-B352-BDBBED89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10EE-DAC4-42E0-9961-9F6D26F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C051-29B3-4AAE-8634-130C0F86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0EF8-2F69-4C88-9172-2CB6DF46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AAD2-D8BD-43EA-9BD6-F9C772D6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4303-6A4A-40DB-B1CB-F5B91A1A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F5A5-A6FE-488A-9F86-A614503C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CA36-038C-4A36-B24D-1C0A573E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6B6A-FEB7-41EC-80B0-DEB8ABAA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A39C-AE65-4E4B-B813-2BA8EA25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7B0B-C332-4BA5-AD95-8F2F5E70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AF39-0D9B-4D0C-BC51-077BB047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DE17-BA62-45D4-A592-236446DB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0977-347A-4F6E-A2E9-8F2F773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5C88-968A-4E52-A9A6-FDD12D2E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8D24-175B-43FA-B899-351895DB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6938-118C-4C98-A434-32E1CC73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1148E-8DF8-44AD-800D-A43E9061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3BEF-0991-4B36-BB2A-E36C5C94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44821-2CC4-47AB-BD6E-87994683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4BCB-3624-4893-809D-0814EC2E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8BF02-20E4-4CFD-9D97-CD9FD1C0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67E1F-E372-452F-8ED0-5CF5E29E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F31E-09D0-4875-967D-EEC7154C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5C9E-7544-49A4-A4B8-59361DCB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DB5EA-3EB0-40C4-8F2E-62C4274B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914F-891B-4CDF-B0F1-3A41313D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4DFAC-3EC3-453B-9273-364021F6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A667-559B-4E14-8C53-51EE993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5F03-8AC8-4561-8C7A-80B8C329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3FB85-C446-4518-970E-495D2CE5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C6A9-BBBA-423C-827A-1FCE200A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880F7-5A58-41C5-BCC6-9A3CF34A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8349-F169-4542-83EF-424A0639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9A6A0-2BF1-4B58-BA76-B1C46A0B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A85D-F296-476A-B059-F5C47739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8E9B3-F172-41AB-B8A9-377BFD7B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43A6C-87E2-488B-9A1C-4983E65A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4825-CF67-420C-BF3C-CF94872D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142F8-AF0C-4455-A520-4C688E16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A4FC3-9E84-4F9D-990B-3098BCD3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70076-136C-4FEC-8AE6-48B3201C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17158-601C-4691-B2E0-0E51DEEE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B4D1C-6944-4F18-8A90-58642373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4DA67-71FD-42EC-BDE4-FB6C4F84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DC385-DA2E-4838-A7BA-C5FCDE94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BA80-A7E2-4C16-9803-25DEF5FC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48A77-568D-49F0-80CB-64138129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1C032-9D7B-4F42-A8FA-A06B449E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48137-DCF7-45AC-841D-6595933A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CEFB1-55C0-4716-88C7-9CB2F4BA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26F88-CB3B-440F-8FFD-8632D443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13B6D-9F66-491E-8B1A-052DA1FB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0830A-16F7-4A69-A04B-25DB1599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3EFB0-2F5A-47B4-B383-706C92F0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D6346-2AC1-4715-A828-E9AC6E51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86DA7-06C9-4E8D-9E04-D26BD34C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D48F-2BEB-481E-9B83-10E32EEC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73270-7C9C-46C7-AED7-D400CE4D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7231A-8780-4176-96B3-8EC89702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A077A-B843-4C4F-A044-8A2E414C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0E0AB-9118-4C0D-A17E-AAE8B97A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69410-68BC-4650-812C-E965A47E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F9857-3CD5-4250-B6C0-610F250A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C9F7F-A20D-47D3-A3A6-386BB95A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0542E-9B72-4186-B9C6-B2DEA531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57C12-744C-4E2A-994A-FEA53CD8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6FE2F-A690-4DF2-B504-02417522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CA13-1C6E-4E57-B811-95F4C461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31CD9-72ED-4053-8CD3-2F865BB5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CFF84-63BA-4B82-BEAC-54023C9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B76DC-6D58-4C7D-82C1-8ED81CF7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ABA5F-2D96-4D36-B735-2AB44FE6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3769A-BDEB-4DB7-98E1-40185CE7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9301B-A74E-4642-9F94-A0E50026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8990A-0CDD-4F59-8167-D7B0504C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3DCA9-D58B-46B1-A0AF-4BA06652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85DD0-8F92-4320-A596-848FE747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C4BAB-9657-438C-B4BD-26A12CAB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24E5-583A-456C-8B92-F941EB2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0F626-F71B-454B-8759-AF494E54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4AE66-0CF3-4C4F-94B6-1B9DAA6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AC5DE-9D25-47FC-8A27-AD60E871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E5814-6075-4243-B9C4-659D5D0A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73F66-CE7D-40A9-8B30-B42232B2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9D036-CEA9-4FAE-B5B3-CD559DF0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38842-8D74-4A0B-8875-D250473C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EDFF5-4A70-4924-B306-3FED0AE6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34904-EBA6-455B-8C42-419AB4F9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5A6AF-049B-483D-A70B-80AA9760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40A0-E074-497C-BE32-445C2E7CD6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1F79-565E-42BB-9666-1EFA4B700D3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1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Rectangle 13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AB7-6A2D-4A13-B057-BF27CE30286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1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9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13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5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6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005C-318C-4E82-B32E-7F5190546A9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43F6-3AC6-44AD-A86B-F0C6B8C33C6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A139-00E5-4175-B14E-04B1AEDB91F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0334-868A-4FE1-8A09-821DFBFA5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749D-8887-425E-8358-13A8FB54D81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CAA5-A5EA-4D27-8482-16CDC449318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4867-ABD3-438C-82EA-9588A3BA0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1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3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2100-B2F0-4CC6-B872-929136739ADE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1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37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Rectangle 14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6F52-5A07-4F84-BC71-041FE316B15A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Straight Connector 11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A0C0-6E58-4C9B-A3FF-878E73991E4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1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4855-2E99-4AEF-8F09-883E5AA15EF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Rop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Alyssa DelCa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 Black"/>
              </a:rPr>
              <a:t>THE EN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 Primavera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 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oselita lleva las botas, los pantelones, la camisa, la chaleco y la gafas de sol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695" name="Picture 6" descr="blah"/>
          <p:cNvPicPr/>
          <p:nvPr/>
        </p:nvPicPr>
        <p:blipFill>
          <a:blip r:embed="rId1"/>
          <a:srcRect l="-10430" t="0" r="-10430" b="0"/>
          <a:stretch/>
        </p:blipFill>
        <p:spPr>
          <a:xfrm>
            <a:off x="403236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 Primavera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97" name="Picture 7" descr="coat_grey"/>
          <p:cNvPicPr/>
          <p:nvPr/>
        </p:nvPicPr>
        <p:blipFill>
          <a:blip r:embed="rId1"/>
          <a:stretch/>
        </p:blipFill>
        <p:spPr>
          <a:xfrm>
            <a:off x="228600" y="1600200"/>
            <a:ext cx="3367080" cy="449568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962160" y="2894040"/>
            <a:ext cx="361764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Grace lleva un jaqueta, un pantelones y una zappatos.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Oto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58880" y="2830680"/>
            <a:ext cx="40291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ia lleva una  vestido y una zappa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1" name="Picture 7" descr="Rosalita"/>
          <p:cNvPicPr/>
          <p:nvPr/>
        </p:nvPicPr>
        <p:blipFill>
          <a:blip r:embed="rId1"/>
          <a:stretch/>
        </p:blipFill>
        <p:spPr>
          <a:xfrm>
            <a:off x="5172120" y="1601640"/>
            <a:ext cx="333216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Oto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8480" y="2754360"/>
            <a:ext cx="4030560" cy="18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ejandra lleva un camisetta, la falda, la pulsera y los zapp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4" name="Picture 6" descr="skirt"/>
          <p:cNvPicPr/>
          <p:nvPr/>
        </p:nvPicPr>
        <p:blipFill>
          <a:blip r:embed="rId1"/>
          <a:stretch/>
        </p:blipFill>
        <p:spPr>
          <a:xfrm>
            <a:off x="503280" y="1601640"/>
            <a:ext cx="372420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El Verano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2895120"/>
            <a:ext cx="3616200" cy="13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uzette lleva una traje de bano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707" name="Content Placeholder 8" descr="suzette"/>
          <p:cNvPicPr/>
          <p:nvPr/>
        </p:nvPicPr>
        <p:blipFill>
          <a:blip r:embed="rId1"/>
          <a:srcRect l="-207" t="0" r="-207" b="0"/>
          <a:stretch/>
        </p:blipFill>
        <p:spPr>
          <a:xfrm>
            <a:off x="403236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Vera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709" name="Content Placeholder 8" descr="canvas.png"/>
          <p:cNvPicPr/>
          <p:nvPr/>
        </p:nvPicPr>
        <p:blipFill>
          <a:blip r:embed="rId1"/>
          <a:srcRect l="-8903" t="0" r="-8903" b="0"/>
          <a:stretch/>
        </p:blipFill>
        <p:spPr>
          <a:xfrm>
            <a:off x="228600" y="1600200"/>
            <a:ext cx="4346640" cy="4876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495320" y="29718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la lleva un camiseta y los pantalones cor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</a:t>
            </a: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Invier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ejandra lleva un botas y un jaqe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3" name="Content Placeholder 8" descr="coat and boots"/>
          <p:cNvPicPr/>
          <p:nvPr/>
        </p:nvPicPr>
        <p:blipFill>
          <a:blip r:embed="rId1"/>
          <a:srcRect l="-39125" t="0" r="-39125" b="0"/>
          <a:stretch/>
        </p:blipFill>
        <p:spPr>
          <a:xfrm>
            <a:off x="3962520" y="1219320"/>
            <a:ext cx="4800600" cy="53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</a:t>
            </a: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Invier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715" name="Content Placeholder 8" descr="suit"/>
          <p:cNvPicPr/>
          <p:nvPr/>
        </p:nvPicPr>
        <p:blipFill>
          <a:blip r:embed="rId1"/>
          <a:srcRect l="-9488" t="0" r="-9488" b="0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onio lleva un traje y una corb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9:28:54Z</dcterms:created>
  <dc:creator>delcampoaly</dc:creator>
  <dc:description/>
  <dc:language>en-US</dc:language>
  <cp:lastModifiedBy>Wendy Delcampo</cp:lastModifiedBy>
  <dcterms:modified xsi:type="dcterms:W3CDTF">2011-01-28T09:47:38Z</dcterms:modified>
  <cp:revision>3</cp:revision>
  <dc:subject/>
  <dc:title>Ropa</dc:title>
</cp:coreProperties>
</file>